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219F-7EDD-4EF1-A48A-6C246B01D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1E30-0A2C-40D8-8CA3-8A4FEB3A3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0B61-32BE-415F-9CCC-97E0C1815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152-1338-4488-AF6B-94EE52B55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BB2D-625C-410E-8CEC-1DF14F00E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A96C-5020-4072-A97E-027D81936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9812-0C9B-427D-A5AF-E699C9B8D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0B4-06BB-45F3-9C3C-71CC941FF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BC70-24E9-4C08-8113-0C94E3BC6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2809-B90B-4251-8184-9E8C8878F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0BBF-438D-4965-AA02-B5C2E9E6C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F5D8-3BE1-4845-9D76-EC90B40EF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0EC-EDB3-4488-812F-D8B615F76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1B7-F796-478D-9E06-4C7DB6A5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1B5-3A86-40CB-864E-5C275204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606-F170-4287-9D95-3D80553F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97A-185A-4BAF-B663-DB2814D9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9CD-A45A-4F3F-B9FF-C65A2EDB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DAF-A81D-45EE-99AB-190A9A53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6DC-1ADA-486B-B338-077009D8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FEB-076B-43F8-A7A0-53820C91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1C2-CD8E-425A-A278-8B036A8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5A3-53AA-4A82-BDA5-04DDF232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FB96-E75D-4E8D-9CC1-CC9F4CC3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385-A183-4084-9C85-A44B8ED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830C-8E25-416D-B242-AD6E89071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але за процену каузалности нежељених дејстав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Проф. др Драган Милован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БАКУС – Каузалност и интензит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h Y, Yap CW, Li SC (2010). Development of a combined system for identification and classification of adverse drug reactions: Alerts Based on ADRs’ Causality and Severity (ABACUS). Journal of the American Medical Informatics Associa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6): 720-7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40384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кључи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рањо ско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8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Врло верова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-8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Верова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Могу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Сумњ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З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1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Сигу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Верова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Могу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Мало верова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 Не може се класификов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тенцијалне тешкоће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алгорит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пшти и специфични недостаци инструмената клиничке процене каузалит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ероватноћа каузалитета може да буде или подцењена или прецење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облеми у практичној примени и варијабилност између и унутар процењивач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довољно познате вероватноће улазних параметара у алгоритму процене каузалит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ЕТХОДНИ УСЛ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 процене каузалности установити следећ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у нежељеног догађа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ив наводног 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тале потенцијалне узро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ску повезаности нежељеног догађаја са применом 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stin Bradford Hill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ll AB. Principles of medical statistics.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d. London: Lancet, 19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gwell P, Haynes B. Assessing claims of causation. In: In: Haynes RB, Sackett DL, Guyatt GH, Tugwell P, eds. Clinical epidemiology – How to do clinical practice research. 3rd ed. Philadelphia: Lippincot Williams &amp; Wilkins, 2006:356-8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вет критериј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Експериментални дока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постоје докази из експерименталних студија на људим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Јачина повеза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ико је магнитуда повезаности претпостављеног узрочника и исхода од интерес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Конзистент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су резултати понављани у различитим студијама, у различитим околностима, од различитих истраживача и под различитим условим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Временски 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узрок претходи исходу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Биолошки градиј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зна завис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је повећање изложености узроку (нпр. доза или време) удружено са повећањем вероватноће настанка исход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цена каузал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о почетне фазе у процени случа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снована на општем систему који је намењен свим реакцијама и свим леков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ндардизована процена узрочно-последичне везе као  рутина у центрима за фармаковигиланцију широм све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мањује нејасноћу података и спречава погрешно закључива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уклања и не квантификује несигурно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емиквантитативна категориз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Кохерент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је повезаност у сагласју са природним током и епидемиолошким карактеристикама обољењ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 Специф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је изложеност удружена са специфичним исходом, пре него са широким спектром обољевањ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 Веродостој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постоји разумни биолошки или физички механизам који објашњава повезаност узрочника и исход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. Ана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а ли постоји повезаност између сличних претпостављених узрока и исхода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ОЦЕНЕ КАУЗАЛ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ме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мањити неслагање између приступ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асификација несигур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појединачних случај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бољшати научну основу за процен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могућ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чно квантитативно мерење вероватности вез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ликовање валдиности од невалид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вантификовање доприноса лека развоју нежељених догађа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мена неизвесности у сигурно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ер процене каузалитета -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кови и хепатотокс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CAM ск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cil for International Organizations of Medical Scientists (CIOMS), Париз, 198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ia &amp; Victorino (M &amp; V) Ск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чи из Португ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ranjo Ск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audio A. Naranjo, MD (1945–2014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l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harmac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her 2015; 97(1): 14–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ајезијански прист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кспертско мишљ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-Induced Liver Injury Networ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ефинитивно, више од 9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рло вероватно, 75-9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роватно, 50-7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огуће, 25-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ије вероватно,мање од 2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парација ск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14280" y="1604880"/>
            <a:ext cx="678672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личити значај појединих критериј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ецифич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ише механизама истог исх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ртикостероидима индукована остеопо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ећана апоптоза остеобласта и остеокл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мањена диференцијација остеобл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ећање животног века остеокл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ише исхода истог механ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ма изазвана хипомагнеземија (нпр. диуретици Хенлеове петљ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ипокалцемија, хипокалиј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Е ПРОЦ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ишљење експе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оде засноване на вероватно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оде алгорит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ИШЉЕЊЕ ЕКСПЕ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на проц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инички стручњ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ње и искуство из прошлости, без употребе јединственог алата како би се постигао закључак о каузалите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ло често коришћени присту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гући контрадикторни закључци и неслаг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а репродуктив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Е ЗАСНОВАНЕ НА ВЕРОВАТНО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ајезијанска статистика (Baye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теоре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тходна и накднадна проц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тходна зн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формације специфичне за дати случа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нзитивнија, значајна позитивна предиктивна вредност, могућа процена ис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лабија специфичност, захтева сложене прорачу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ајесова теор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(DCE I AC) = Pr (AC I DCE) x Pr (DC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__________    __________     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(OCE I AC)    Pr (AC I OCE)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 (O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роватно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пунски к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CE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гађај изазаван ле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E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гађај изазван другим узро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Е АЛГОРИТ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Формат и структура упитн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т питања и одгов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тегоријалне (најчешће бинарне) или нумеричке варијабле (најчешће градира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купни збир (ско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вршна процена каузалитета (категоријал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елики број доступних инструмената проц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Једноставност у практичној приме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Задовољавајућа специфичност, мања варијабилност између оцењивач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Значајан утицај збуњујућих чиниоц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емогућност квантитативне проце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лгорит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елики бро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арањо ска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јчешће коришћен метод у истраживањ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pmidcalc.org/?sid=7249508&amp;newtest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ЗО и центар за фармаковигиланцу у Упсали (WHO–UM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тиолошко-дијагностичи систем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énchiou’s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Француски метод (French Causality Assessment Metho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АБАКУС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пецифичне предности и недостац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еменска ана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лачење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halleng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влачење лекова и бележење резулт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ољшани су или нису побољш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овно изазивање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halleng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авање једног лека поново под истим условима као пре и бележење исхо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цидив или без рециди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6:51:25Z</dcterms:created>
  <dc:creator>Dragan</dc:creator>
  <dc:description/>
  <dc:language>en-US</dc:language>
  <cp:lastModifiedBy>Windows User</cp:lastModifiedBy>
  <dcterms:modified xsi:type="dcterms:W3CDTF">2020-04-03T10:26:03Z</dcterms:modified>
  <cp:revision>12</cp:revision>
  <dc:subject/>
  <dc:title>Процена каузалности додатак</dc:title>
</cp:coreProperties>
</file>